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4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50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2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771063" cy="1429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770400" cy="142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2"/>
          </p:nvPr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310760" y="1073160"/>
            <a:ext cx="7148520" cy="536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96480" y="6791400"/>
            <a:ext cx="7750440" cy="64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67DE7CFB-95AD-42D4-B8A0-B5C8D336607B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21F0F92B-A015-4506-B3D3-01B956589AF0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formation are available under folder “AD Produc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88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A621AD8C-428C-49B7-92B9-627098BB08B0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formation are available under folder “AD Produc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97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DE64FFC2-2663-4B0B-9115-B680062C3776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404" name=""/>
          <p:cNvSpPr/>
          <p:nvPr/>
        </p:nvSpPr>
        <p:spPr>
          <a:xfrm>
            <a:off x="1244520" y="7346880"/>
            <a:ext cx="703584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31760" tIns="0" bIns="658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406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5B84F4F0-82D2-4872-8C2F-330141274000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7760" y="7335360"/>
            <a:ext cx="7817040" cy="643284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a is our best-value device with integrated camera and full feature set supporting the photography option inclu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resolution display: 65k colours, 130x130 pixel, up to 7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F camera: 352x288 pixel display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65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645F1982-9A81-4D16-98A0-197FC62B547C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F camera: 352x288 pixel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74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EA10BF4E-0286-44D9-81BF-6891BB27E9EC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7760" y="6789240"/>
            <a:ext cx="7817040" cy="64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440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9520" indent="-19224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66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799"/>
              </a:spcBef>
              <a:buClr>
                <a:srgbClr val="002b5d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CM MP CCQ SLI                                                                  Seite </a:t>
            </a:r>
            <a:fld id="{30DA9DB2-1AA8-4E44-A596-714ACE3142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9600">
            <a:off x="5562360" y="6550200"/>
            <a:ext cx="1822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 Siemens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2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9240" y="152280"/>
            <a:ext cx="7007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586728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7760" y="1143000"/>
            <a:ext cx="320040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7280" algn="ctr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80960" algn="ctr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pn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"/><Relationship Id="rId6" Type="http://schemas.openxmlformats.org/officeDocument/2006/relationships/slide" Target="slide19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4560" y="2708280"/>
            <a:ext cx="4284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roduct details and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55680" y="6469200"/>
            <a:ext cx="7518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CM MP CCQ SL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Jun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5800" y="6068880"/>
            <a:ext cx="1374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thias Wilt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ristoph Bö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268280"/>
            <a:ext cx="4103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64040" y="2637000"/>
            <a:ext cx="1768680" cy="353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1125360"/>
            <a:ext cx="55432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small housing with Lumberg 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tating flash-tube for monoblock, slider and clamshell 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n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-by during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re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with variable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ligent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ional tube technology (instead of L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with phone display (e.g.,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. 0.2% battery capacity will be used for one sh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-Ey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undesirable "vampire eye" eff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ver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tted flashlight intensity controlled by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867280" y="1425600"/>
            <a:ext cx="1806480" cy="4811760"/>
            <a:chOff x="5867280" y="1425600"/>
            <a:chExt cx="1806480" cy="4811760"/>
          </a:xfrm>
        </p:grpSpPr>
        <p:graphicFrame>
          <p:nvGraphicFramePr>
            <p:cNvPr id="227" name=""/>
            <p:cNvGraphicFramePr/>
            <p:nvPr/>
          </p:nvGraphicFramePr>
          <p:xfrm>
            <a:off x="5914800" y="4775040"/>
            <a:ext cx="1694160" cy="1462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4800" y="4775040"/>
                      <a:ext cx="1694160" cy="14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9" name="" descr=""/>
            <p:cNvPicPr/>
            <p:nvPr/>
          </p:nvPicPr>
          <p:blipFill>
            <a:blip r:embed="rId4"/>
            <a:srcRect l="0" t="0" r="0" b="894"/>
            <a:stretch/>
          </p:blipFill>
          <p:spPr>
            <a:xfrm>
              <a:off x="5867280" y="1425600"/>
              <a:ext cx="1806480" cy="35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Attachable Flash – IFL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211640" y="472428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456080" y="2190600"/>
            <a:ext cx="907920" cy="63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1125360"/>
            <a:ext cx="648000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al adaptation and orientation in the car due to adjustment 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 rotational 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 of your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ct housing with roll-up mechanism for the microphone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lexible microphone positioning in the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call acceptance (if activ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olume control via the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ho compensation and nois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supply and fast-charge function for the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manent display illu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 and simple installation requiring no tools or installation materi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ows you to swap the Car Kit easily between different cars (abou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0 cars were tested, Car Kit Easy is compatible for 90% of leading European c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04000" y="3895560"/>
            <a:ext cx="2089080" cy="19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300720" y="1700280"/>
          <a:ext cx="2087640" cy="18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700280"/>
                    <a:ext cx="208764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Car Kit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00" y="1125360"/>
            <a:ext cx="52560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offers an optimised wearing comfort by holder and earpiece hing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 Kit Com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 Kit Comfort for C65 will be equipped with a PTT cra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increases the value of Car Kit Comfort by additional functions and more comfort (e.g., PTT, volume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 up to date – link your mobile phone to a PC with the Data Cable USB and synchronise your data or transfer multimedi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4960" t="0" r="4268" b="0"/>
          <a:stretch/>
        </p:blipFill>
        <p:spPr>
          <a:xfrm>
            <a:off x="5535720" y="1592280"/>
            <a:ext cx="1773000" cy="4500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Original Access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152880" y="4896000"/>
            <a:ext cx="1135080" cy="1485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873680" y="4869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876920" y="3238560"/>
            <a:ext cx="1135080" cy="1485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146400" y="3240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547640" y="3240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1547640" y="4896000"/>
            <a:ext cx="113688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24000" y="1125360"/>
            <a:ext cx="629892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new "Themes" concept allows to change the look and feel of the phone with just one click. Five pre-defined themes will be pre-installed and more can be easily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gos, pictures, animations and polyphonic ringtones will help the user personalise his phone and help him create colourful and personal MMS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T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Chat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125360"/>
            <a:ext cx="2828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 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Ja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arer: G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39640" y="3573360"/>
          <a:ext cx="2235240" cy="25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573360"/>
                    <a:ext cx="22352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419640" y="1125360"/>
            <a:ext cx="38368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Featu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oup c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erts &amp; message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ltiple conversation in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lication start via address book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WAP push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2133720"/>
            <a:ext cx="383688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endent on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k provider for special information regarding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642080" y="4365720"/>
            <a:ext cx="1177920" cy="1584360"/>
          </a:xfrm>
          <a:prstGeom prst="rect">
            <a:avLst/>
          </a:prstGeom>
          <a:ln w="9360">
            <a:solidFill>
              <a:srgbClr val="6699cc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2987640" y="4162320"/>
            <a:ext cx="44658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t Messaging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Wireless Village 1.1 stand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Foto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125360"/>
            <a:ext cx="518472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plication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addition to basic functions the new Photo Editor offers more advanced features and  add-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oom, rotate, flip h/v, mirror, brightness, contrast, resize, cut, crop / clip, p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al filter effects like sepia, greyscal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te of additional objects like text, borders / frames, graphic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cial effects like morp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796000" y="1197000"/>
            <a:ext cx="1582200" cy="3168360"/>
            <a:chOff x="5796000" y="1197000"/>
            <a:chExt cx="1582200" cy="316836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5796000" y="1197000"/>
              <a:ext cx="1582200" cy="31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>
              <a:lum bright="20000"/>
            </a:blip>
            <a:srcRect l="0" t="2125" r="0" b="24473"/>
            <a:stretch/>
          </p:blipFill>
          <p:spPr>
            <a:xfrm>
              <a:off x="6160320" y="1982880"/>
              <a:ext cx="845640" cy="83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1693800" y="5103720"/>
            <a:ext cx="701640" cy="851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1042920" y="5103720"/>
            <a:ext cx="72540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2386080" y="5103720"/>
          <a:ext cx="68112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86080" y="5103720"/>
                    <a:ext cx="68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8"/>
          <a:srcRect l="18321" t="0" r="0" b="0"/>
          <a:stretch/>
        </p:blipFill>
        <p:spPr>
          <a:xfrm>
            <a:off x="4788000" y="4349880"/>
            <a:ext cx="1071360" cy="1336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rcRect l="19810" t="0" r="0" b="0"/>
          <a:stretch/>
        </p:blipFill>
        <p:spPr>
          <a:xfrm>
            <a:off x="5581800" y="4991040"/>
            <a:ext cx="109512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16040" y="2217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mall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8680" y="220500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rmal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72720" y="2205000"/>
            <a:ext cx="9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umbo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002200" y="2637000"/>
          <a:ext cx="2233800" cy="22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2200" y="2637000"/>
                    <a:ext cx="22338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625840" y="2637000"/>
          <a:ext cx="2233440" cy="22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5840" y="2637000"/>
                    <a:ext cx="2233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50920" y="2637000"/>
          <a:ext cx="2233440" cy="22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2637000"/>
                    <a:ext cx="2233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694240" y="150804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t editor / vie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39040" y="1176480"/>
            <a:ext cx="389448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theme consists of the following 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r scheme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background pic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le and menu background pic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le Wallpap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ferred book ring t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reensav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n melo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ff melo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n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ff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-search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in-input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ait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ot changeable via the settings men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229440" y="1260360"/>
          <a:ext cx="10731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9440" y="12603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7760" y="1260360"/>
          <a:ext cx="107316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7760" y="12603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035680" y="2413080"/>
          <a:ext cx="1073160" cy="107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35680" y="241308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238800" y="4761000"/>
          <a:ext cx="1073160" cy="10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38800" y="476100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242040" y="3586320"/>
          <a:ext cx="1073160" cy="107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2040" y="358632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234120" y="2417760"/>
          <a:ext cx="1073160" cy="1073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34120" y="24177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024520" y="4772160"/>
          <a:ext cx="1073160" cy="1073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24520" y="47721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035680" y="3591000"/>
          <a:ext cx="1073160" cy="1073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35680" y="359100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85680" y="4803840"/>
          <a:ext cx="254016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" y="4803840"/>
                    <a:ext cx="25401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935600" y="1674720"/>
            <a:ext cx="1628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groun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rt of each ski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06800" y="3379680"/>
            <a:ext cx="1909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t, Icons and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ame for all sk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10120" y="5276880"/>
            <a:ext cx="1816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sche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rt of colo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44480" y="1236600"/>
          <a:ext cx="1486080" cy="14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4480" y="1236600"/>
                    <a:ext cx="1486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495520" y="1236600"/>
          <a:ext cx="1486080" cy="14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95520" y="1236600"/>
                    <a:ext cx="1486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542960" y="2863800"/>
          <a:ext cx="1650960" cy="1650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2960" y="286380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35800" y="1638360"/>
          <a:ext cx="1650960" cy="1650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35800" y="163836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 flipH="1">
            <a:off x="1614240" y="5567400"/>
            <a:ext cx="609480" cy="21420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99880" y="5324400"/>
            <a:ext cx="966600" cy="2667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81040" y="4914720"/>
            <a:ext cx="719280" cy="16668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671040" y="5843160"/>
            <a:ext cx="1490760" cy="31932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1218960" y="5810040"/>
            <a:ext cx="928440" cy="104760"/>
          </a:xfrm>
          <a:prstGeom prst="line">
            <a:avLst/>
          </a:prstGeom>
          <a:ln w="9360">
            <a:solidFill>
              <a:srgbClr val="ff8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40160" y="4775040"/>
          <a:ext cx="2539800" cy="165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40160" y="4775040"/>
                    <a:ext cx="2539800" cy="16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flipH="1" flipV="1">
            <a:off x="3914280" y="4876560"/>
            <a:ext cx="723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00200" y="5267160"/>
            <a:ext cx="1199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105080" y="562932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3666960" y="5762520"/>
            <a:ext cx="9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61880" y="5829120"/>
            <a:ext cx="15145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445520" y="3727440"/>
          <a:ext cx="1650960" cy="1650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45520" y="372744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483320" y="1660680"/>
          <a:ext cx="177840" cy="164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83320" y="1660680"/>
                    <a:ext cx="1778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flipH="1" flipV="1">
            <a:off x="1285920" y="2485800"/>
            <a:ext cx="162000" cy="78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209760" y="2457000"/>
            <a:ext cx="257400" cy="8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51800" y="3138480"/>
            <a:ext cx="5810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lor sk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6160" y="1117440"/>
            <a:ext cx="73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EM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packag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phone mounting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it Cover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pad + joystick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ack Li-Ion 600 mAh, battery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charger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SUPPLY/L55-R65/Eu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(German/English, Italian, Fren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box/inlay C65/AC-LEPORELLO 1 (eng./germ./fren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ff8200"/>
              </a:buClr>
              <a:buFont typeface="Wingdings" charset="2"/>
              <a:buChar char="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dicated operator package: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NA/LAM 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APAC 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ntent of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7080" y="341280"/>
            <a:ext cx="2174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5092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25236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25236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508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464508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464508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627280" y="1484280"/>
            <a:ext cx="2171880" cy="43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5   …what a customer might complain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5080" y="1197000"/>
            <a:ext cx="714528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current software version 1 it is not possible to use 2 of the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installed games. The device will switch off and has to be reboo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update process for the C65 is under evaluation and we will kee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info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ta list regarding software versions will be provided as soon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might happen that the device freezes sporadically when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tions as screensaver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move the batte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need a key for removing the Clipit cov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not it is possible to damage the silver Inlay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tery cover and the battery have to be remov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co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ing the SIM card might be very difficult when you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lift the card a little b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tery cover can only be opened with a lot of  tr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scroll through the menu some time delay might occ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00720" y="3716280"/>
            <a:ext cx="1224000" cy="2736720"/>
            <a:chOff x="6300720" y="3716280"/>
            <a:chExt cx="1224000" cy="27367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6300720" y="3716280"/>
              <a:ext cx="12240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">
              <a:lum bright="20000"/>
            </a:blip>
            <a:srcRect l="0" t="2125" r="0" b="24473"/>
            <a:stretch/>
          </p:blipFill>
          <p:spPr>
            <a:xfrm>
              <a:off x="6582240" y="4395240"/>
              <a:ext cx="654120" cy="7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 flipV="1">
            <a:off x="4932360" y="3789360"/>
            <a:ext cx="1800360" cy="287280"/>
          </a:xfrm>
          <a:prstGeom prst="line">
            <a:avLst/>
          </a:prstGeom>
          <a:ln w="2556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634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for y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tion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do not forget to give feedback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there are further questions after the training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se just contact Matthias or Christoph!!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keep you informed about news and changes!</a:t>
            </a: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5720" y="4048560"/>
            <a:ext cx="43340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MS Rele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-Resolution 65k Colour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tractive Themes &amp;                                   convenient  Download As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fferent silent alert t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152244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878280" y="1533600"/>
            <a:ext cx="1614600" cy="19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050920" y="1533600"/>
            <a:ext cx="1609920" cy="1935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67560" y="1555920"/>
            <a:ext cx="1530000" cy="194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25960" y="4051800"/>
            <a:ext cx="43336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va MIDP 2.0 / CLDC 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PS Cla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M content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rDA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0920" y="333360"/>
            <a:ext cx="158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56000" y="1368360"/>
            <a:ext cx="2187360" cy="437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1080" y="1947960"/>
            <a:ext cx="3022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ndy, fashionable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gonomic, mono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4344840"/>
            <a:ext cx="30225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load Ass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t Messe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4890960"/>
            <a:ext cx="2783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IPit Covers 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2000" y="1393920"/>
            <a:ext cx="203508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1840" y="148428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00" y="3789360"/>
            <a:ext cx="203508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00" y="390528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1393920"/>
            <a:ext cx="203544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7280" y="148428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335480"/>
            <a:ext cx="203544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1947960"/>
            <a:ext cx="3022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play: 130 x 130 pixel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65k col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59880" y="4451400"/>
            <a:ext cx="171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0920" y="333360"/>
            <a:ext cx="158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003640" y="2895480"/>
            <a:ext cx="81936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13440" y="2978280"/>
            <a:ext cx="12952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ing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e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125360"/>
            <a:ext cx="388944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ssion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GSM (GSM Phase 2/Phase 2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RS Multislot cla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ple b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A: 900/1800/19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FTA: 850/1800/19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oders: FR, HR, EFR, A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500280"/>
            <a:ext cx="36576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/talk ti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-300 h/250-300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ti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h for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logos: incoming, outgoing, mi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part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125360"/>
            <a:ext cx="31687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physics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80 cc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 104 x 45 x 17 m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ok e.g. for neck/wrist 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hangeable par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It covers Clas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2200" y="333360"/>
            <a:ext cx="4124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924360" y="3603600"/>
            <a:ext cx="1604880" cy="142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012000" y="3789360"/>
            <a:ext cx="1528560" cy="10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1052640"/>
            <a:ext cx="360036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x 130 pixel, 65k colour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.3 x 27.3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anten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tery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-Ion 600 m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 plug-in (3V/1,8V), SAT clas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oustic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ndsfree spea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 backlight: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vigation: 5-way joyst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d/end, 2 soft keys, 12-key 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lent 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1052640"/>
            <a:ext cx="35290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phical user interfa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 to 7 li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dividual selectable UI / t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figurable UI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or specific menu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dictive text input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fferent font siz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, jumbo, application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, APAC, NA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r var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7480" y="333360"/>
            <a:ext cx="4210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" y="1125360"/>
            <a:ext cx="372924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sonal Informa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book: 250 e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endar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-do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ld clock/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culator/curr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 reco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, concatenated 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 to group, predefined text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S: rele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ty servic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fferent Java clients to be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907920"/>
            <a:ext cx="338436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Rights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5480" y="333360"/>
            <a:ext cx="4295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8040" y="1185840"/>
            <a:ext cx="372924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tion Bas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av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DP 2.0, CLDC 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 2.0, WML/XHTML dual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 download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, HTTP, Java,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ory for user dat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3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tio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ons, wait anim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 chords, MIDI, W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cial nois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rdable in AMR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hoto handling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bum, 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70400" y="1133640"/>
            <a:ext cx="28656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pIt covers Clas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hangeable key 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m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pIt covers, JAVA apps, ring tones, wallpapers, screen saver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 K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tachable flash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B, RS232, 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5640" y="333360"/>
            <a:ext cx="4327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880" y="1413000"/>
            <a:ext cx="723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4440" y="152712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520" y="1413000"/>
            <a:ext cx="93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87720" y="1413000"/>
            <a:ext cx="837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1880" y="1165320"/>
            <a:ext cx="146844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84960" y="1413000"/>
            <a:ext cx="779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80840" y="15271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2000" y="209700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2184480"/>
            <a:ext cx="805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31880" y="2097000"/>
            <a:ext cx="146844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5640" y="2086200"/>
            <a:ext cx="1444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 mA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BA-6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00320" y="2097000"/>
            <a:ext cx="14716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8040" y="2184480"/>
            <a:ext cx="142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097000"/>
            <a:ext cx="146988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24360" y="2184480"/>
            <a:ext cx="969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P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2000" y="266868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7040" y="2756160"/>
            <a:ext cx="750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1880" y="2668680"/>
            <a:ext cx="146844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89560" y="2756160"/>
            <a:ext cx="1162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00320" y="2668680"/>
            <a:ext cx="147168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39720" y="2756160"/>
            <a:ext cx="99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 PT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66868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40920" y="2756160"/>
            <a:ext cx="933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pgrade Ki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O-6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1880" y="3240000"/>
            <a:ext cx="146844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9200" y="33274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00320" y="3240000"/>
            <a:ext cx="14716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2800" y="3327480"/>
            <a:ext cx="677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240000"/>
            <a:ext cx="1469880" cy="57168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99440" y="3327480"/>
            <a:ext cx="1226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ar Kit Comfort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KC-6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2000" y="3811680"/>
            <a:ext cx="1469880" cy="57132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7840" y="3899160"/>
            <a:ext cx="107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LIPit Covers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1880" y="3811680"/>
            <a:ext cx="1468440" cy="57132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3240" y="399744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11680"/>
            <a:ext cx="1469880" cy="57132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5680" y="3899160"/>
            <a:ext cx="1089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bile Holder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MH-6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31880" y="4383000"/>
            <a:ext cx="1468440" cy="57168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45640" y="4568760"/>
            <a:ext cx="124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4383000"/>
            <a:ext cx="1469880" cy="57168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09440" y="4470480"/>
            <a:ext cx="1409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bile Holder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tenna HMH-66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954680"/>
            <a:ext cx="146988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0440" y="5042160"/>
            <a:ext cx="1244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26000"/>
            <a:ext cx="146988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36800" y="56134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Data Adap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O-6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689360"/>
            <a:ext cx="250920" cy="14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4480" y="4680000"/>
            <a:ext cx="147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ports Phone 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81560" y="4905360"/>
            <a:ext cx="250920" cy="1476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96560" y="4896000"/>
            <a:ext cx="24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81560" y="5122800"/>
            <a:ext cx="250920" cy="14760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96560" y="5113440"/>
            <a:ext cx="24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5338800"/>
            <a:ext cx="250920" cy="14760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4120" y="5329440"/>
            <a:ext cx="63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ra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5556240"/>
            <a:ext cx="250920" cy="14760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03040" y="55468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00880" y="5794560"/>
            <a:ext cx="1614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000" y="3240000"/>
            <a:ext cx="1469880" cy="571680"/>
          </a:xfrm>
          <a:prstGeom prst="rect">
            <a:avLst/>
          </a:prstGeom>
          <a:solidFill>
            <a:srgbClr val="ffd14f"/>
          </a:solidFill>
          <a:ln w="3816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960" y="3327480"/>
            <a:ext cx="107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LIPit Covers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41880" y="2097000"/>
            <a:ext cx="1468440" cy="571680"/>
          </a:xfrm>
          <a:prstGeom prst="rect">
            <a:avLst/>
          </a:prstGeom>
          <a:solidFill>
            <a:srgbClr val="6699cc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87200" y="2184480"/>
            <a:ext cx="5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FL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12120" y="209700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82600" y="2184480"/>
            <a:ext cx="1537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12120" y="323532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86040" y="3322800"/>
            <a:ext cx="1930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12120" y="380700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46600" y="3894120"/>
            <a:ext cx="1638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C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12120" y="266688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8760" y="2754360"/>
            <a:ext cx="1244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EMEA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10:06:44Z</dcterms:created>
  <dc:creator>Markus Kaiser</dc:creator>
  <dc:description/>
  <dc:language>en-US</dc:language>
  <cp:lastModifiedBy> </cp:lastModifiedBy>
  <dcterms:modified xsi:type="dcterms:W3CDTF">2004-06-04T06:27:58Z</dcterms:modified>
  <cp:revision>531</cp:revision>
  <dc:subject/>
  <dc:title>ICM Styleguide 2-bo</dc:title>
</cp:coreProperties>
</file>